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D6E-87D4-4EB4-AEBF-F3B5BEB6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34C-061E-4E9B-A20A-897D373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08A-FFD4-4E60-9973-EAAE27AB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770-B211-41FB-8852-668F8283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93B-5EA5-4BAB-AEF9-F6092965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605-6745-47CE-B2A7-49756C57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248-225E-4AE0-A8DC-813B809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27E-311E-4B57-B4F9-5834EFDB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51D-75CC-40FC-8ECF-D333F0B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37FC-D8BF-4CA4-8A84-602575D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0F99-A4AE-47A5-8DBB-49339AE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545-BD9C-460A-B706-F6F55098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9392-6EBF-4B7B-B3E3-15417D4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435D-3BBF-4F20-B5B6-C1C35C9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CE91-61FD-4FA9-8549-ED1DFFA0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A781-AB24-4130-9EA8-20366B3A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1B98-FCC1-4BCE-9489-23D85B30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7499-3126-4AB2-9B8E-B798A0E9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4C2C-C634-4DD5-893A-2A8A682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185A-D883-4CCB-883E-E409F32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625F-0909-420A-9D07-857E390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686F-96E9-46E2-A0C9-2E0BBE2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A8-F9D8-4109-A199-D19398D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A2A2-382E-4E35-803B-F369D02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6062-7589-4CA8-A244-93D8D44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05CD-B86A-46F5-A538-E017FE8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F74F-7152-48C6-9469-47AC071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6D00-19AD-4BA4-A1AF-D80CE26C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1D1E-52A6-4550-8C40-D1039152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80D8-06E7-48D1-B14A-D4E52C42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6570E-5792-4362-B94C-37962144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A190-E04E-455C-B099-9455D1D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2912-BDC2-4DB3-9785-50AA562F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34B-FE02-4CF1-AB67-9F708D95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FA8B-5D80-412F-9844-554CEF7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2354-CFB6-4244-85BC-0291FEC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FF37-AFAA-4D0C-B60A-5C35B9FA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91D0-F750-4703-B93D-BCBAA95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90B4-75FB-42AC-B41A-CDA9603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A130-162C-45FD-A512-8861D95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C23C-1BB5-4B53-9919-D941D65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B2BF-4492-49F3-8378-22D2D693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B03F-8F44-49B7-8BC3-1475768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D967-3EDB-4209-944E-17CE7E3B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8E0-45BF-403C-B6BB-1C21B2A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0ABC-F24D-49D5-AD38-9AF8310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E5BE-6D4A-4937-AFB5-F3118A7F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67A4-12B5-47E1-ADB1-643749BD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3D1C-2F59-4180-B0B8-A7DAF82A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8224-653F-4984-9ABB-6B91202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5D6F-B241-462C-A5CE-239E711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9E7D7-BC69-4B85-9E0C-CF5F2F7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A453-2E14-4046-B7BA-CE6077A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DCAC-5161-49A1-B614-85C6E5F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B7D0-C542-4828-8F3C-2B4DE6FE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9E0-3D76-4263-ABA1-1D412D05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EA63-AF5B-45AB-9CEF-89823A5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2A0E-D35A-4731-8296-83B756F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DD18-648B-46ED-BD22-E68470E2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3E4B-6554-4422-9D2C-8B9120D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4C2F-C6E0-49E7-89AC-4F4BB4C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3780A-6549-435D-A8FB-BD1F3F3E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CADD-184C-47E6-A8B7-04507D3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A8B2-FB9A-4D60-A8C6-DFC8D79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7416-4E21-4116-952C-549A9AC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0C67-6557-437E-BC27-724A3F6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48D-B8D3-4565-9C14-7CD6F61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5E179-70BC-496F-9A90-4B242228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EF4BC-3EF1-4D90-AE29-991D7F25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8168-6F5E-4896-A24D-A570148C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16A0-3AB1-4CCF-814A-C851AC68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3D94-3BAC-47F3-B2D7-34E279B6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2563-BA39-4B76-B3C2-0856943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1FCA-3BF0-48A4-992B-36AE22FF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A8A5-5DB4-4FEC-AB17-E92C342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5E8C-C4DF-4C05-A0E9-7018D0F6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76BE-C470-4CEE-A6E4-3C63C26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CDD-2E89-4326-80A0-1296527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AAA8-80D4-4C68-9AAF-1A68A96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A9EB-FA68-4377-B2A8-698D2D8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217CF-1965-495A-8D8C-AF38FF9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0CD03-B017-41C0-BA71-F496AAD4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AA3F-81FA-462A-ACA3-841B919A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DBFFC-CA49-48B7-A7A4-B05A19B4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3921-97E5-4BEF-A9C6-DA928C9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48307-780F-464E-A47B-172EABC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6F882-39F1-40CD-B424-E0356AB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1685C-C5D9-465F-8DD4-A7EC61D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0C6-4A2B-4BC7-9115-20C31DB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0A8BC-9DD0-4573-94F7-12207C5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1CD56-2926-4139-9D60-0C7DAD3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9A41-8443-41A9-8B35-140C8E5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3B692-CB3C-4BD7-AA82-D9ADAE0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B267-BDC1-46F2-86FD-FB4D7A5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7D32E-3EBF-4816-947D-39F05C49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B4B9D-B710-4384-A3C9-4214B812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5E2-9183-4423-9AAD-03EC8E1239C6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56D-5A71-407F-A2FC-5DB8D6DF3396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4d4d6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439B-EEBE-4B6D-8A3B-5FB16930CEE8}" type="slidenum"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746-E2FC-4EC4-83A9-6323265B72E0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245-03B8-4FEC-BE32-BAC1CCC154B8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92C-1601-4398-9F9B-84C2427EF0B8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4d4d6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3658-3FE5-4E3C-B172-5D0B8E8FE310}" type="slidenum"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63D-9DA3-47E6-8B15-6B6419884CA5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ary of a Wimpy Kid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by Jeff Kinney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Presentation by Zach Hafn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Genre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genre of this book is a hilarious fiction about an average life of a middle school student of every day 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g Heffley tells about his daily life. He tells you that he will be rich and famous and has a very embarrassing friend named Rowley. As everything goes wrong for Greg, Rowley becomes popular. Greg takes a drastic measure to save his friend from ultimate humiliation and they are friends yet aga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Pictures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pic>
        <p:nvPicPr>
          <p:cNvPr id="359" name="Content Placeholder 3" descr="gregs diary.jpg"/>
          <p:cNvPicPr/>
          <p:nvPr/>
        </p:nvPicPr>
        <p:blipFill>
          <a:blip r:embed="rId1"/>
          <a:stretch/>
        </p:blipFill>
        <p:spPr>
          <a:xfrm>
            <a:off x="2114640" y="1279440"/>
            <a:ext cx="3213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Recommendation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would recommend this book to my brother Ben. Because he always loves a good laugh and this book guarantees one good la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Bonus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connections I made while reading this book were, that Greg was like the only one of his family who understands maturity and only has 1 friend. It seems that way with my brothers about maturity and I only have like one friend who I hang out wit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y favorite part was when Greg told every one that he threw away the cheese and had gotten the cheese touc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26:23Z</dcterms:created>
  <dc:creator>Chris Hafner</dc:creator>
  <dc:description/>
  <dc:language>en-US</dc:language>
  <cp:lastModifiedBy>Owner</cp:lastModifiedBy>
  <dcterms:modified xsi:type="dcterms:W3CDTF">2012-05-06T21:00:01Z</dcterms:modified>
  <cp:revision>3</cp:revision>
  <dc:subject/>
  <dc:title>Diary of a Wimpy Kid</dc:title>
</cp:coreProperties>
</file>